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28646-9DC1-4A5A-982E-4CD17551D6E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2F87B-5F5F-4BCB-89A7-92250909852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A233F-3D65-4C12-B3A1-AE5BF06EA65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F5182-1FAF-4488-BB39-32F8908075E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DCB96-477D-46C2-A570-4E2F97F8275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D6BAE-FE3D-4C05-8236-031657F517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E5527-DAD6-4B5A-BDDE-7078A813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2CCE-6E79-43B1-B206-F54F1AEB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3EBE0-2A56-499F-9865-A486D0999E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71599-92E8-4809-860F-3AF94EAB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116D-9CC2-4010-AAFB-E59B557C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C624A-E0F9-4467-B3ED-0B18D193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E8D1-019F-4D4F-BEED-28618F83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56A7-EB95-4E48-BD73-E29543ED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30752-B4AF-4219-AC9E-20671805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E6211-EA8A-4D28-93CE-3D810276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98A17-EB50-463A-890A-2D7F79CE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3A4DF3-D4B1-4E3D-B737-929773D34DE6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CÓMO SE ORIGINAN 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OS VOLC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CuadroTexto 1"/>
          <p:cNvSpPr/>
          <p:nvPr/>
        </p:nvSpPr>
        <p:spPr>
          <a:xfrm>
            <a:off x="9288360" y="774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1817640"/>
            <a:ext cx="8496360" cy="50403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Cómo se originan los volc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11280" y="981000"/>
            <a:ext cx="3168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olcanes en bordes convergentes: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laca que penetra en el manto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puede fundir parcialmente.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magmas así formados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scienden hasta la otra placa,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rmando volcan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2050920" y="2421000"/>
            <a:ext cx="43344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419640" y="1413000"/>
            <a:ext cx="3168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olcanes en bordes divergentes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tre ambas placas se abren fisuras que comunican el manto con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superficie. En dichas fisuras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rocas del manto se funden y ascienden, formando volcan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4500720" y="2781360"/>
            <a:ext cx="353880" cy="21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6694560" y="1268280"/>
            <a:ext cx="2449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olcanes  en zonas de intraplaca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gunos volcanes aparecen en zonas alejadas de los bordes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placas (zonas de intraplaca). Esto se deb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 ascenso de rocas muy calientes del manto que penetran por grietas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litosfer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 flipH="1">
            <a:off x="6582960" y="3573360"/>
            <a:ext cx="1157400" cy="18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5T10:24:11Z</dcterms:modified>
  <cp:revision>45</cp:revision>
  <dc:subject/>
  <dc:title>Diapositiva 1</dc:title>
</cp:coreProperties>
</file>